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829B-AEC5-4791-A698-F4B23E63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0D42-92DE-49E9-93C1-9F0CB44B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B757B-2B02-404C-8341-BE039EB8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83790A-C996-4012-A609-22AFA156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DBB71-D50E-4E59-AA3F-ADDABA73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6E3600-2E45-4436-BFDA-CEAC16C8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C4B9A8-7650-4706-BE90-61F49958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4028B-92D2-4FA8-8CA0-F58147F0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95A98E-40AC-45CA-82BB-31EF5346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8B7F3-FEE1-4CAA-A171-C31123F00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6A171-D8AA-41E4-AEE5-49627F9A9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608306-E20C-46F0-AAF9-37803C818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A7F7-F080-4F02-9ECF-685842E5B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6E1762-52A3-4757-977C-D6A73DE3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1CC626-5657-48E1-8FFB-DE24EFD7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DF028-FA8F-48C0-8421-C414DB05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4D906D-C6A0-46DF-9DBE-28C474F4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EDDBCE-95A5-4780-AD20-8ABEE3C3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FB4713-416E-4C4A-8E5C-64F7416A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BDFF87-8BE4-4F55-80AA-8662A746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A115FC-F0E6-46FD-8C23-9F2AB17E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1F52B8-B37B-4004-B166-8859B22D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0D9112-E1A9-449D-9353-C8CEF1D5E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8251-8845-42C2-841E-569860511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56720-B5FC-46FB-9FBE-3D16FE413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43B31-EB9A-4450-83CD-8756AEA84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D4589C-06BB-4188-B159-162A8A19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68448-FBF7-4965-8C1B-33ACEDE1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061A9-8C1A-4FFB-8435-56C5F5D5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9719C-C43B-40F4-9AF6-077FE1E3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DEEC9-6B7C-4D01-BDB5-5E5DE4D4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94BD5-2FA2-4B1D-846A-1CB2C0AC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0D74E-7D68-4759-84DB-5B637A82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C5A8D-D99B-46B9-AB1B-8304776B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64DD-56EC-47C0-95A5-571EDFE81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02DDE-9834-4CE7-8869-3E7A988F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4B7E2-E0F6-4C7A-A093-DF6684A60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E96C2-4152-4A80-B959-D8EAE49A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8199F4-0163-4AD6-8A5E-B88600FC6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2B2050-21F4-4679-936F-7229271E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4A3E22-7816-48B8-991D-04E82BEE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627DE7-8C81-4C8C-B13E-A9582C05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A4F9E-C8A7-414A-9C9F-5F70A368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063727-B928-4B86-917D-BDF8BD57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27B242-17D6-4016-B81D-93DD542F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C05F-3443-4A79-8594-1B71A45A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0C304F-8F50-4C15-9FE4-149C28B1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60BB2C-CE25-42DC-ADC0-D86C59D2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16F42A-84CD-4560-8700-CE61C65D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6B806B-6E94-4672-9619-0397A9B8E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330955-D1F7-449E-BB1D-BD1BAF4E9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817C30-9097-4B35-A8DD-1E73E6BC2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1D2BD4-088B-4BFC-A3BE-247876E1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1C7A59-367D-4343-88EC-00A2465A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4AD315-8C18-4E13-B4BC-9375778A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EFB094-87E6-4F90-936A-FE7EF1A6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B462-DA72-4CF5-BD45-5F98EEAA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BB0222-F5A9-4764-8A1A-CFFD47F4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7F6A6E-42FD-40B1-B4CC-7F1085FE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B0BB37-3159-492F-9EDC-EA5EA818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825F1D-1041-4000-821D-150B7014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9AD864-7CE1-45AC-AF6A-C4D6FD2B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3C0A1F-AB97-4235-8B54-4C2CCE97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CA1A65-3707-40A7-BF9B-9811236BF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29B1CD-1F7C-4CAC-ACA2-64E48A11B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248B27-DEBD-44FD-A2CD-BB4859AF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E67710-300A-4D0F-8AFF-0DDB5396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D5E1-FBA1-4E6B-911C-B6D49189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3DCABC-6780-4341-AC23-F392C14D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B434A7-5E31-416F-9F3E-DEB3EE78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4AF691-BCB1-453E-8717-B1A16071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FE126F-073D-4E3B-B21A-327761B6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DF00BA-0F0E-491B-87EA-4EAEC9D5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4FC0B0-BA26-4189-9986-7FB28CDB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3E69DE-9711-441B-A640-175288CF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6BB637-E96D-44F4-9156-070044BDA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4F3ABA-B0C8-45DE-952E-71C87FB7F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1E09C5-A5FA-4806-A37E-88B7CFEE7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0B6E-E5A8-4215-8262-3B8418D4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9AADDC-0629-47E7-B2CA-60FC008B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284468-5707-42B0-ACFA-752E4E43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85565A-D9A6-4BE4-BC16-6EFF702B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A8603A-6ED2-4E4A-862F-A23C3E46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266DC6-ABDE-4955-B8B3-1A8A1305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E68507-D886-4778-B805-32FDC26A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2741A9-1108-4E89-855B-1A07DEDB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18D501-CE39-487A-B2E6-9057CDDC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203BF8-D423-40C8-B0DE-B561DE95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827752-D090-4A68-945B-FBC27CD4D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5B48-1B6A-45AA-AE1C-30A8D3F1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4943FF-10FD-4208-BD01-266C25359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C7A457-46FC-4AFB-9441-A9D0CA40B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784F40-A105-488B-8D1A-0ED4635D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65FE95-FF62-4505-B216-4A003D2E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492AAA-FF51-4403-998D-23FBA232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2B48D9-6FE9-4520-B06F-791A1588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A13086-0E59-4FCF-A637-3FBFBDDA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FE4AD8-4296-482A-BFE4-907C81A6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B195D7-F692-4461-A594-90829539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3BD205-DB01-42B4-B513-95CC9F36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5AAB-67DE-474B-A60F-109BE121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4843AA-8FFF-4F65-8368-A57B5847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7DDF0D-F063-40CF-907C-BB2525129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55B8F2-9289-4B04-A29F-9BF778D38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865095-C9C4-4814-823D-1F67217F3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9F668D-9DD2-483B-9CEB-F3FFE02A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0F8CD4-3ECE-4458-88F9-87524AA6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826E40-B262-4C3B-AF78-CAED8FB8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196381-3468-450B-A1E0-03087520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00B000-99B0-419E-98CB-1C70AD38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C6EB60-6538-4FCF-898D-BC0FAB0D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8DFA-C1ED-4BC5-845C-D78F52CE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C386-E328-4000-96AA-DEF7D737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593846-303B-4748-A9C0-ABA8C58B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F956D6-9AF0-499C-AEF2-FFE82B58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54AC65-D8B5-4A19-B260-0AD003D6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B2640F-E48B-4FA6-B09E-7D3806B18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800A06-7020-4048-B9B8-3B42A25D3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38C4FA-5F00-402F-B76D-B4C3DD138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CAC882-D99B-499B-B8FD-43885A7E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A35EDD-4F90-4E4A-A1E2-8C6E91B9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FD4303-12E0-42A9-9823-6DB26F0F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15FE1C-FD0F-4434-B3A5-E0C64F21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3FB4-EC74-4826-8273-8A225C76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E0C672-B069-4E66-8BFF-21F29342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2EF7B6-4708-4A40-B625-B4E88033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E30BBF-C5A7-4A44-AE69-03894D6D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D62B22-1CAC-44B2-AE26-230BA8D7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DC2829-4360-4734-A518-9C0C8915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0A0FC7-2279-4723-BEC6-7D115A90E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55D168-1667-4D9A-ABE6-E33093CC5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827F3F-63AC-45DC-89A8-B90B0188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23C874-A6C2-4F77-81C0-3B9A0149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B2C41A-2B2E-4D09-AB0F-EFF5009E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3385-2D91-49FE-BF85-5EC55986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399FAF-450E-4762-82EC-0AF2459F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71ACB3-0008-490E-9F2C-9FE5C75D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526A61-DB5C-4762-87F8-8347C810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A7918D-DB93-42A0-9AB3-2E6F2CE0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AD8AEA-D9F0-4F76-AA30-B691749E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501E5B-A960-4254-BDA5-E190E879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644EC2-4F87-47F2-A10B-CE071F6F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0ED4E3-90E6-4203-8020-6C48BF113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28DBC7-3B38-4E26-8F35-BD1234EFE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E53B6E-DCD4-4B42-81F9-99843E7A1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9926-B5B4-44B7-8FF7-E1DC0F7F0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C7BDDE-9EC7-4CA8-8364-20BA4BA9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0562CC-050E-4F7D-9C0E-78F808BA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2AE357-F6B5-42A6-ACF5-442C5584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A6F322-868F-42C0-A422-3D127872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112B34-F03F-4360-AC42-A317659B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F1974D-D1EF-41B8-BA43-B37EC28F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B32726-C331-4728-BBD5-14314B9F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AC1026-517E-4FFC-81D4-5EA70F40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2FFEE9-F276-4E18-86F7-E1D22CEA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1A2D72-4312-4DDA-A7A4-E4B557AF6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D53B-5E1B-43CB-8C5E-A26CE831C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8D9392-D364-43AA-B29C-0C802C258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95BDCD-A20E-46B0-9133-16377F1D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06500F-B3AD-4EFD-B400-7E22AC12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0FE66F-4E4B-4E78-80F3-5980A7BB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D1A9E6-3349-4ACB-89AF-B2C558DF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AE7891-0B15-4A08-9C1E-B9204936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E40BBE-DF15-47CD-98AA-4C7B97D6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4CC34D-60C1-445E-AC95-D27FAC50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C58B21-AB8B-4BBF-BF23-2D027862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8AB60B-ACF6-44BD-9D85-80C78194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4CDB7-2F35-42C2-A2BD-77B3AC431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F10616-029F-4F2F-9B31-CC975662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39DB17-9413-4710-A6D6-FFAA46BDA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AC90A7-3B25-4B8E-9214-A1463CC1B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2398D-2377-47EC-B507-4C330C2F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24147-66D1-4F5D-822D-8FAC5F35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50AD1-D3E4-47FC-8E1B-DDBC39AF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111CA-FF3C-441A-841D-383276BB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4C01-4002-4892-8918-69F6C0CD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12E06-B4B8-4F09-B1F9-96ED16FE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97E44-7A5B-4336-9427-28FC0EFD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943D4-FA2E-473D-BA7F-ACCACEDD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C4667-8F65-4222-A990-9B7A7400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32468-4E09-438C-BBD8-2384BB9E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05265-09B5-4EF0-B803-581E85055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8B74B-FFC5-4435-A01B-84FD5E7EE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F12B0-1A79-41FD-8BAA-47056631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2AF78-652D-48ED-8EA8-08DA0AE4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58649-053C-4EFF-9DF8-3B59B190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5ACB-DB22-4B06-BA20-5CA98A19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6C3C5-897F-4219-8D08-59D8FA13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96ACC-34C8-4F0F-923A-1A5BCF9C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62BB3-665D-42CA-BE6D-7A554CAF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3450A-223C-4CC7-B782-F46048C5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33C11-EEF0-4F3B-82A2-754AF73D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793A8-E787-4CEE-9EB0-8E0D45E5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50824-2D24-4708-9070-33BD3982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E682E-DCE5-42FD-A559-609802B13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DB6CD-A3CB-491A-A5BA-614791C6C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1B2F7-2789-46E4-9CD2-ADE17FC70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9720-F0BF-4C5F-B7EC-EC975234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F0177-3010-4215-9FDB-819A98EC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D4B87-6E88-4C09-A836-F5E23602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3BD46-EFB5-4B63-AB75-F2219AE5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1CF38-4F8B-4511-9FFD-A000625F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2077D-793D-4541-BCCA-A47629FA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D52E2-9017-49AD-9207-A7F53354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368D3-E1AB-4EBC-9DCD-6E7DE30C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73B64-BB90-4B03-B6EC-6603C9E8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53F8A-2EC8-4545-9647-9C450F40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737C6-9482-4CCF-ACFF-C1E93AC27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8C9F-E5F1-46A3-A4E8-D9004CAC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98C10-4CF1-411F-8349-3DAC5DA88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64D09-6D67-427A-9DA8-560E3E33D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C8063-9C54-471E-813B-D6951C21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693E2-17A1-4316-80DF-107D5CA7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8272B-72D2-49F4-8C24-8F6D412D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53DF3-65F9-4D1A-BBEF-38EA4222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53328-3D75-45BF-AE9A-0DF0E3C7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8257F-58CE-46D8-A960-CEA7D0AF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CD87C-E832-43DD-BB42-55BE6F9E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5990D-4EF0-4B79-BE5A-06558B75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2057-EF85-4647-8C77-6E31D46E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8CCAD-E811-48BC-9F75-82B37213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2BDFD-DA6A-4BB3-B6BC-47B21934F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F314E-5B08-4A73-8C94-5589C8106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1C83B-CB5B-47AD-9ED9-AA2B0CE05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EEF34-F59F-42BD-8159-DAC2FF97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9F0B9-B9E5-4D46-B68E-99FAE613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C029C-5E5B-4942-B809-798D5767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9F813-FDEB-4694-9602-46133773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4059B-DEBE-4522-BB1C-9C5A6237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FB122-87C2-4540-A4E4-72199624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74D8-0DC3-40D7-9927-2174AD29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98321-3A7B-4515-B86B-4868129F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F04A1-77B9-405F-9181-8D5E342C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32384-C760-43E8-9909-14357B7C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7B322-D8F8-4990-BFE2-9D6A8620F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B5CC8-BE27-4A5B-9348-22460EDD3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6EC8A-A7DB-42A7-B85F-C80599A51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97C3D-77D6-419E-84E5-4B757FB6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012D7-948E-462D-AD22-36DD15D7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2D9D3-06FB-4C2C-B643-ACB6D512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3EFC8-4BC0-4A79-8EB4-FD609517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BE22-B11E-41F7-AC88-6D35E458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84D19-3AD3-411A-B5DB-E5F5B6E3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B0BE0-65F4-488D-A590-64A28C5C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BDA4A-DB39-4A4E-BAE5-4E152595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F29CB-EC25-4ADE-856E-8FB161E1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C2089-C1D2-41C5-AB3F-E40821B1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49F2D-AF21-4A52-9989-76C5EC00F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6A9E5-9144-4C82-AA73-26AC6A0F3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26A5C-057A-48A2-83B1-7E401E803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AB6E88-4280-470E-94DE-C9D80B80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6A4CF3-9AE0-403D-BE68-5B003362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CD5C-813C-4A63-839E-F3DC408F5A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8C5D-4FA9-426E-B6AD-04DCCD5E32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B44B-8A82-418E-BAC9-0B8F78B640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97AE-B915-47AB-9242-22F690BFC3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C64F-F89D-4E8D-BDF9-E67E99FB76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4169-A849-4BF8-A314-AE98CAE35D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52F2-707B-40A9-B595-88DD8B4229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3711-77CF-4534-9947-A2F9A3FE51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C121-35BE-4FAA-9505-D1716755DC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B4CE-F06A-44F2-B2C5-187CF61A4A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4B07-2A45-4E79-9CFB-7DACD3CE16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6AB7-95B6-4A71-8BAF-4863B6ADA7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FDF9-4A3D-4090-A135-B5A00148FA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F028-DEFD-476A-89BF-266B2430C7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870D-68FB-4A1B-9682-A5FBD03FA6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3BF4-C7C0-4010-810C-7F87A8E707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1669-7929-4462-BF5C-147D256A9F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D1B8-58A0-424A-AA04-5BF3164898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7C13-699F-4DFF-9774-5DB2D3F25F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7217-1A24-4E80-B168-B9F7653E60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CDD6-C6C3-4578-AD06-4E78C0163E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3E87-F185-41CA-9C42-F8E981BB7F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B5A1-BC96-4942-8E45-41E895DECA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AFA2-0BA8-4DC7-B512-A2E12AC0A3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1342-0DCE-410F-A462-E3C828C31B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7202-FB89-4507-9AF7-FFA188FFA6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E0C3-40C8-4B0A-9C31-AA2FBFDE41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B43B-B36C-4F6A-88A7-DC5DD11038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35AE-DD38-4EDF-8F62-898E3B5D30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5F62-6D31-4CC6-8776-EA8F061E9B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904F-D2CB-4DAD-9F8E-EB74B56F86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115C-B63B-4BCF-892F-208C93C24F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3701-3097-42FC-B618-B40B7DB133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BE43-B0E2-4E30-985F-EF22058791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DB36-15C6-44A0-87FD-C1668A066E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42B7-B899-4C4F-8E3C-F98877EC9E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78C9-2E41-4437-9205-813CCB3C4F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94C8-673F-4380-AFF7-EEA7E73645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AECB-AE7E-43AE-946E-8B69818F5F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FF31-A74F-4C2F-A861-E026483932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562120" y="3209760"/>
            <a:ext cx="401976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09600" y="781200"/>
            <a:ext cx="8524800" cy="56005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879560" y="1413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1533600" y="1773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4067280" y="14130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3708360" y="1773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6154560" y="1413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5796000" y="1773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8329680" y="14130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7970760" y="1773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1849320" y="280980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4643280" y="28386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7380360" y="27957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1835280" y="32846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4629240" y="331308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7365960" y="32702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1835280" y="36734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7"/>
          <a:stretch/>
        </p:blipFill>
        <p:spPr>
          <a:xfrm>
            <a:off x="4629240" y="370188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8"/>
          <a:stretch/>
        </p:blipFill>
        <p:spPr>
          <a:xfrm>
            <a:off x="7365960" y="365904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40" name="图片 60446" descr=""/>
          <p:cNvPicPr/>
          <p:nvPr/>
        </p:nvPicPr>
        <p:blipFill>
          <a:blip r:embed="rId19"/>
          <a:stretch/>
        </p:blipFill>
        <p:spPr>
          <a:xfrm>
            <a:off x="1433520" y="6021360"/>
            <a:ext cx="2317680" cy="380880"/>
          </a:xfrm>
          <a:prstGeom prst="rect">
            <a:avLst/>
          </a:prstGeom>
          <a:ln w="0">
            <a:noFill/>
          </a:ln>
        </p:spPr>
      </p:pic>
      <p:pic>
        <p:nvPicPr>
          <p:cNvPr id="941" name="图片 60447" descr=""/>
          <p:cNvPicPr/>
          <p:nvPr/>
        </p:nvPicPr>
        <p:blipFill>
          <a:blip r:embed="rId20"/>
          <a:stretch/>
        </p:blipFill>
        <p:spPr>
          <a:xfrm>
            <a:off x="5695920" y="6006960"/>
            <a:ext cx="231768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9410" descr=""/>
          <p:cNvPicPr/>
          <p:nvPr/>
        </p:nvPicPr>
        <p:blipFill>
          <a:blip r:embed="rId1"/>
          <a:stretch/>
        </p:blipFill>
        <p:spPr>
          <a:xfrm>
            <a:off x="685800" y="833400"/>
            <a:ext cx="7772400" cy="56199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1187280" y="3184560"/>
            <a:ext cx="3024360" cy="3189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1258920" y="3573360"/>
            <a:ext cx="3024000" cy="3193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4"/>
          <a:stretch/>
        </p:blipFill>
        <p:spPr>
          <a:xfrm>
            <a:off x="5437080" y="3184560"/>
            <a:ext cx="3024360" cy="3189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5"/>
          <a:stretch/>
        </p:blipFill>
        <p:spPr>
          <a:xfrm>
            <a:off x="5508720" y="3573360"/>
            <a:ext cx="3024000" cy="3193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6"/>
          <a:stretch/>
        </p:blipFill>
        <p:spPr>
          <a:xfrm>
            <a:off x="971640" y="6035760"/>
            <a:ext cx="568800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8:08:53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